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756-B3FF-408C-BF62-49A2F4AB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C0BA-085A-4D0E-8DE0-35B4B22B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645-232F-4737-91C5-F9469153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DB28-D861-475B-A573-49A22509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C4F-57F5-43F0-A280-92DED779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741-9D32-40A4-9B5D-F2782A68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8DB3-661A-4B37-930A-F74DE89F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1C6D-E937-4770-BF57-C12013AF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5E00-46E8-4A81-B87A-C0A9FFA1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625-E341-4998-8143-E86524F1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1588-9C13-4EFC-B233-41596D51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A7D-A0E2-40EB-AC40-FCD34760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A796-7AF5-4439-A513-8053A897C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llaneshighschool.wikispaces.com/" TargetMode="External"/><Relationship Id="rId4" Type="http://schemas.openxmlformats.org/officeDocument/2006/relationships/hyperlink" Target="http://llaneshighschool.wikispaces.com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ikispaces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1247760" cy="352440"/>
          </a:xfrm>
          <a:prstGeom prst="rect">
            <a:avLst/>
          </a:prstGeom>
          <a:ln w="0">
            <a:noFill/>
          </a:ln>
        </p:spPr>
      </p:pic>
      <p:pic>
        <p:nvPicPr>
          <p:cNvPr id="42" name="llaneshighschool » home_1234373919739" descr=""/>
          <p:cNvPicPr/>
          <p:nvPr/>
        </p:nvPicPr>
        <p:blipFill>
          <a:blip r:embed="rId2"/>
          <a:stretch/>
        </p:blipFill>
        <p:spPr>
          <a:xfrm>
            <a:off x="1332000" y="2781360"/>
            <a:ext cx="5556240" cy="3311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68360" y="764640"/>
            <a:ext cx="3841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Tutorial de Wiki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98800" y="1987920"/>
            <a:ext cx="724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menzar a escrib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1. Entra en el Wiki del curso: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Times New Roman"/>
                <a:ea typeface="바탕"/>
                <a:hlinkClick r:id="rId3"/>
              </a:rPr>
              <a:t>http://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Times New Roman"/>
                <a:ea typeface="바탕"/>
                <a:hlinkClick r:id="rId4"/>
              </a:rPr>
              <a:t>llaneshighschool.wikispace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ándida Gallar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1720" y="615600"/>
            <a:ext cx="413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2. Identifícate haciendo clic en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ign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Wikispaces » signin_1234373821639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2303640" cy="180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76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3080" y="2839680"/>
            <a:ext cx="775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3. Abre la página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1º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Puedes acceder desde el menú de navegació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izquier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llaneshighschool » 1ºC_1234374327859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4505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laneshighschool » Alicia, Javier y Christian_1234374697152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1095480" cy="431640"/>
          </a:xfrm>
          <a:prstGeom prst="rect">
            <a:avLst/>
          </a:prstGeom>
          <a:ln w="0">
            <a:noFill/>
          </a:ln>
        </p:spPr>
      </p:pic>
      <p:pic>
        <p:nvPicPr>
          <p:cNvPr id="51" name="llaneshighschool » Alicia, Javier y Christian_1234374563799" descr=""/>
          <p:cNvPicPr/>
          <p:nvPr/>
        </p:nvPicPr>
        <p:blipFill>
          <a:blip r:embed="rId2"/>
          <a:stretch/>
        </p:blipFill>
        <p:spPr>
          <a:xfrm>
            <a:off x="900000" y="2492280"/>
            <a:ext cx="540072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7120" y="1195920"/>
            <a:ext cx="23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5. Seleccion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di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0720" y="61992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Ahora ab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pág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5832360" cy="57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430560" cy="433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427640" y="3141720"/>
            <a:ext cx="237960" cy="152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482760" cy="431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47720" y="471960"/>
            <a:ext cx="479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6. Te aparecerá es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barra de herramient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3924360" y="3822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88160" y="2059560"/>
            <a:ext cx="686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ste botón vamos a utilizarlo para crear enlaces con páginas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xternas al Wi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elecciona el texto que aparecerá resaltado como en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elecciona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xternal lin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20720" y="327888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91040" y="4004280"/>
            <a:ext cx="69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liminar un enl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Selecciona el texto resaltado y haz clic s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ste botó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7240" y="3357720"/>
            <a:ext cx="21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e la UR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36400" cy="474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492360" y="1557360"/>
            <a:ext cx="287640" cy="218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042920" y="3500280"/>
            <a:ext cx="2800440" cy="3213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2400" y="338760"/>
            <a:ext cx="79725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Insertar imáge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Las imágenes que vamos a insertar pueden proce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de dos sit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1. de nuestro ordenad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Haz clic sobre el botó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:        se te abrirá una ventana como la que apare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en la imagen inf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1120" y="1960920"/>
            <a:ext cx="8478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 Haz clic sobre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xaminar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para seleccionar una imagen de tu orden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elecciona la imagen y haz clic sobre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Abri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En la ventana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xaminar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aparecer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la dirección del arch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 Haz clic en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Upload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para subir la imagen y guardarla en tu Wi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 Haz doble clic sobre la imagen que deseas insertar en el Wiki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483480"/>
            <a:ext cx="80643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de algún sitio web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 Esta vez se trata de una imagen que se encuentra en algún otro servidor y de la que tenemos que copiar su dirección d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Haz clic sobre el botón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ara abrir la ventana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nsertar imágenes o arch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92360" y="1197000"/>
            <a:ext cx="358920" cy="272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26920" y="1555560"/>
            <a:ext cx="79930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scribe 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dirección UR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de la imagen en la caja de texto inf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Haz clic sob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n un doble clic sobre la imagen la insertarás en el Wi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ómo obtener la dirección URL de una im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Hay algunos sitios de donde obtener imágenes, por ejemplo: Imágenes de Goo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Haz clic encima de la imagen eleg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Abre el menú con  el botón derecho del rat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elecciona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piar la ruta de la im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De vuelta a nuestra Wiki, en la caja de texto inferior haz clic sobre el botón derecho del ratón y seleccion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peg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53960" cy="417600"/>
          </a:xfrm>
          <a:prstGeom prst="rect">
            <a:avLst/>
          </a:prstGeom>
          <a:ln w="0">
            <a:noFill/>
          </a:ln>
        </p:spPr>
      </p:pic>
      <p:pic>
        <p:nvPicPr>
          <p:cNvPr id="75" name="YouTube - Elizabeth Gilbert- A new way to think about creativity_1234380829239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2952720" cy="924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500720" y="306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419640" y="3573360"/>
            <a:ext cx="5400360" cy="308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4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7560"/>
            <a:ext cx="806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Insertar un video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Los pasos a seguir serán lo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바탕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elecciona el vídeo de cualquiera de los servicios de Internet como por ejemplo: You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pia el código html ,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l código de la caja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Inserta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, que se encuentra a la derecha del video haciendo clic encima de él y con el botón derecho del ratón selecciona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pia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308052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De vuelta a la Wiki, haz clic so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3427920"/>
            <a:ext cx="398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Selecciona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Other 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Pega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el código que h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copiado en el cuadr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text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9600" y="655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9:43:13Z</dcterms:created>
  <dc:creator>Candi</dc:creator>
  <dc:description/>
  <dc:language>en-US</dc:language>
  <cp:lastModifiedBy>Candi</cp:lastModifiedBy>
  <dcterms:modified xsi:type="dcterms:W3CDTF">2009-02-11T21:46:04Z</dcterms:modified>
  <cp:revision>9</cp:revision>
  <dc:subject/>
  <dc:title>Diapositiva 1</dc:title>
</cp:coreProperties>
</file>